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A4D-5218-4497-853A-95F19C4C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11768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FAE-7AD5-4241-888C-67D1BCAC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70C-DE30-4323-B1ED-F8D1BF7F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137124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137124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11768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11768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11768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17B-D2E5-49C4-BBF1-7F74794F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861-CDFB-47C4-AD55-9E3515D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982-CCD0-48F8-B941-F8F5D7C7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4C7-EE9F-498F-B9F8-7134398C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3D9-38B7-41CC-8F21-B49497A4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9A6-EE4D-4840-AAB3-A266336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8A2-B0E1-4D28-99B2-F423BF9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985-3BA6-4749-ABD1-F99FA2E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11768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B93-E630-4AF0-9917-9E51C05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890-4F6F-416A-8BC0-0A46B7D8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ildback"/>
          <p:cNvPicPr/>
          <p:nvPr/>
        </p:nvPicPr>
        <p:blipFill>
          <a:blip r:embed="rId2"/>
          <a:stretch/>
        </p:blipFill>
        <p:spPr>
          <a:xfrm>
            <a:off x="0" y="220680"/>
            <a:ext cx="918684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d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914400" y="3276720"/>
            <a:ext cx="7238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ave Endangered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1970’s genetic material from a wild corn species in Mexico was used to stop a leaf fungus that had previously wiped out 15% of the U.S. corn cr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ave Endangered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rcial and recreational salmon fishing in the Pacific Northwest provides 60,000 jobs and $1 billion dollars annually and is the center of Pacific Northwest Native American cul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ndustry is in trouble as salmon decline due to habitat degration from dams, clear cutting, and overgrazing along stre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s about endangered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than one and one half million species exist on the earth to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more than 1,000 animal species endangered worldw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s about endangered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U.S., 735 species of plants, 496 species of animals are listed as threatened or endange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6 of these listed species have recovery plans under develop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“Endangered Species” organiz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Audubon Society’s Endangered Species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angered Species Program-U.S. Fish &amp; Wildlif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Wildlife Fe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Conservation Monitoring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dlife Conservation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uppose your expensive, newly planted trees are being eaten by an endanagered species of bir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You can not kill the birds because that would be illeg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You have contacted the local fish and wildlife agency, but they are busy and can’t address your situation for at least two to three weeks. What can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angerment vs. Exti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i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es that has disappeared from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food shortages, pollution, destruction of habitat or failure to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anger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hreat to wildlife species that would lead to its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angered species is one that is in immediate danger of exti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atened vs. R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atened spec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opulation numbers and may become endang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immediate danger of becoming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re spec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in smal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managed well a rare species may become threate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91360" y="1600200"/>
          <a:ext cx="1952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1360" y="1600200"/>
                    <a:ext cx="1952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endangerment and extin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truction of Habit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 sprawl (the expanding of towns and c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of new exotic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explo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ilure to re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shor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vs. Exo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s and animals that are part of a specific geographic area and have been part of the biological landscape for a long period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tic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ed by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exotic species effect wild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mf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y on natur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new diseases the natural species cannot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ight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reduce over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exploi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es may become endangered due to the rate in which the species is being u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cture the unrestricted harvest of whales during the early and middle parts of the 2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lead to restrictions and laws on wha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pulation of wild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ntroduction of wildlife into their natural habit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 additional food sour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 safe environments where they can breed and give bi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 the use of chemic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 the animals to less polluted, less populated ar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ave Endangered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low growing tree found in the ancient forest of the Pacific Northwest, once considered a trash tree, was recently identified as a promising treatment for ovarian and breast canc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is is a drug derived from the purple foxglove, it’s used to treat heart dis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0:07:24Z</dcterms:created>
  <dc:creator>Steve Sargeant</dc:creator>
  <dc:description/>
  <dc:language>en-US</dc:language>
  <cp:lastModifiedBy>Alicia Burge</cp:lastModifiedBy>
  <dcterms:modified xsi:type="dcterms:W3CDTF">2011-04-19T00:46:41Z</dcterms:modified>
  <cp:revision>23</cp:revision>
  <dc:subject/>
  <dc:title>Describing Species Endangerment</dc:title>
</cp:coreProperties>
</file>